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5E8-80A3-41BC-868B-DFB1D2D1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BB8-2847-472B-AEDF-E2490DA4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997-487C-4193-9D95-E94B3CCA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6AE-AA36-4E78-84C7-338309A6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893-6C54-4B91-AA3B-1E1E73CE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970-DFC0-4972-8E27-8A182F62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C2D-4A7F-4050-9AC9-53106AA0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CF8-2E20-41CF-827B-12A399B3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129-392C-4333-958E-07D1AF64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F25-150F-43BC-A816-B50B2401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AEF-C086-48E7-B36F-2042D4F2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E335-28A4-471A-9BB4-6A97B146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7FA0-B470-4611-A80A-2350F3738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2.jpeg"/><Relationship Id="rId9" Type="http://schemas.openxmlformats.org/officeDocument/2006/relationships/image" Target="../media/image10.jpeg"/><Relationship Id="rId10" Type="http://schemas.openxmlformats.org/officeDocument/2006/relationships/image" Target="../media/image4.jpeg"/><Relationship Id="rId11" Type="http://schemas.openxmlformats.org/officeDocument/2006/relationships/image" Target="../media/image11.jpeg"/><Relationship Id="rId12" Type="http://schemas.openxmlformats.org/officeDocument/2006/relationships/image" Target="../media/image5.jpeg"/><Relationship Id="rId13" Type="http://schemas.openxmlformats.org/officeDocument/2006/relationships/image" Target="../media/image12.jpeg"/><Relationship Id="rId14" Type="http://schemas.openxmlformats.org/officeDocument/2006/relationships/image" Target="../media/image3.jpeg"/><Relationship Id="rId15" Type="http://schemas.openxmlformats.org/officeDocument/2006/relationships/image" Target="../media/image1.jpe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applause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applause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applause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applause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applause.wav"/><Relationship Id="rId4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>
            <a:hlinkClick r:id="" action="ppaction://hlinkshowjump?jump=nextslide"/>
          </p:cNvPr>
          <p:cNvSpPr/>
          <p:nvPr/>
        </p:nvSpPr>
        <p:spPr>
          <a:xfrm>
            <a:off x="8001000" y="6553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Verdana"/>
              </a:rPr>
              <a:t>Kren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800" spc="-1" strike="noStrike">
                <a:solidFill>
                  <a:srgbClr val="ff0000"/>
                </a:solidFill>
                <a:latin typeface="AlphaClouds"/>
              </a:rPr>
              <a:t>UTRKA  KLAUNOV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Slika 11" descr="k1661632.jpg"/>
          <p:cNvPicPr/>
          <p:nvPr/>
        </p:nvPicPr>
        <p:blipFill>
          <a:blip r:embed="rId1"/>
          <a:stretch/>
        </p:blipFill>
        <p:spPr>
          <a:xfrm>
            <a:off x="304920" y="380880"/>
            <a:ext cx="1422360" cy="2159280"/>
          </a:xfrm>
          <a:prstGeom prst="rect">
            <a:avLst/>
          </a:prstGeom>
          <a:ln w="0">
            <a:noFill/>
          </a:ln>
        </p:spPr>
      </p:pic>
      <p:pic>
        <p:nvPicPr>
          <p:cNvPr id="44" name="Slika 12" descr="k1673989.jpg"/>
          <p:cNvPicPr/>
          <p:nvPr/>
        </p:nvPicPr>
        <p:blipFill>
          <a:blip r:embed="rId2"/>
          <a:stretch/>
        </p:blipFill>
        <p:spPr>
          <a:xfrm>
            <a:off x="7162920" y="457200"/>
            <a:ext cx="1485720" cy="2158920"/>
          </a:xfrm>
          <a:prstGeom prst="rect">
            <a:avLst/>
          </a:prstGeom>
          <a:ln w="0">
            <a:noFill/>
          </a:ln>
        </p:spPr>
      </p:pic>
      <p:pic>
        <p:nvPicPr>
          <p:cNvPr id="45" name="Slika 13" descr="k2371007.jpg"/>
          <p:cNvPicPr/>
          <p:nvPr/>
        </p:nvPicPr>
        <p:blipFill>
          <a:blip r:embed="rId3"/>
          <a:stretch/>
        </p:blipFill>
        <p:spPr>
          <a:xfrm>
            <a:off x="4692600" y="380880"/>
            <a:ext cx="120024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Slika 14" descr="k2245199.jpg"/>
          <p:cNvPicPr/>
          <p:nvPr/>
        </p:nvPicPr>
        <p:blipFill>
          <a:blip r:embed="rId4"/>
          <a:stretch/>
        </p:blipFill>
        <p:spPr>
          <a:xfrm>
            <a:off x="787320" y="5181480"/>
            <a:ext cx="1346400" cy="1346400"/>
          </a:xfrm>
          <a:prstGeom prst="rect">
            <a:avLst/>
          </a:prstGeom>
          <a:ln w="0">
            <a:noFill/>
          </a:ln>
        </p:spPr>
      </p:pic>
      <p:pic>
        <p:nvPicPr>
          <p:cNvPr id="47" name="Slika 15" descr="k2245190.jpg"/>
          <p:cNvPicPr/>
          <p:nvPr/>
        </p:nvPicPr>
        <p:blipFill>
          <a:blip r:embed="rId5"/>
          <a:stretch/>
        </p:blipFill>
        <p:spPr>
          <a:xfrm>
            <a:off x="784872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8" name="Slika 16" descr="k1609707.jpg"/>
          <p:cNvPicPr/>
          <p:nvPr/>
        </p:nvPicPr>
        <p:blipFill>
          <a:blip r:embed="rId6"/>
          <a:stretch/>
        </p:blipFill>
        <p:spPr>
          <a:xfrm>
            <a:off x="4419720" y="4699080"/>
            <a:ext cx="1650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ka 49" descr="k1609589.jpg"/>
          <p:cNvPicPr/>
          <p:nvPr/>
        </p:nvPicPr>
        <p:blipFill>
          <a:blip r:embed="rId1"/>
          <a:stretch/>
        </p:blipFill>
        <p:spPr>
          <a:xfrm>
            <a:off x="8400960" y="5715000"/>
            <a:ext cx="743040" cy="1003320"/>
          </a:xfrm>
          <a:prstGeom prst="rect">
            <a:avLst/>
          </a:prstGeom>
          <a:ln w="0">
            <a:noFill/>
          </a:ln>
        </p:spPr>
      </p:pic>
      <p:pic>
        <p:nvPicPr>
          <p:cNvPr id="50" name="Slika 48" descr="k1609589.jpg"/>
          <p:cNvPicPr/>
          <p:nvPr/>
        </p:nvPicPr>
        <p:blipFill>
          <a:blip r:embed="rId2"/>
          <a:stretch/>
        </p:blipFill>
        <p:spPr>
          <a:xfrm>
            <a:off x="8456760" y="4572000"/>
            <a:ext cx="687240" cy="927000"/>
          </a:xfrm>
          <a:prstGeom prst="rect">
            <a:avLst/>
          </a:prstGeom>
          <a:ln w="0">
            <a:noFill/>
          </a:ln>
        </p:spPr>
      </p:pic>
      <p:pic>
        <p:nvPicPr>
          <p:cNvPr id="51" name="Slika 47" descr="k1609589.jpg"/>
          <p:cNvPicPr/>
          <p:nvPr/>
        </p:nvPicPr>
        <p:blipFill>
          <a:blip r:embed="rId3"/>
          <a:stretch/>
        </p:blipFill>
        <p:spPr>
          <a:xfrm>
            <a:off x="8400960" y="3429000"/>
            <a:ext cx="743040" cy="1003320"/>
          </a:xfrm>
          <a:prstGeom prst="rect">
            <a:avLst/>
          </a:prstGeom>
          <a:ln w="0">
            <a:noFill/>
          </a:ln>
        </p:spPr>
      </p:pic>
      <p:pic>
        <p:nvPicPr>
          <p:cNvPr id="52" name="Slika 46" descr="k1609589.jpg"/>
          <p:cNvPicPr/>
          <p:nvPr/>
        </p:nvPicPr>
        <p:blipFill>
          <a:blip r:embed="rId4"/>
          <a:stretch/>
        </p:blipFill>
        <p:spPr>
          <a:xfrm>
            <a:off x="8400960" y="2286000"/>
            <a:ext cx="743040" cy="10033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5" descr="k1609589.jpg"/>
          <p:cNvPicPr/>
          <p:nvPr/>
        </p:nvPicPr>
        <p:blipFill>
          <a:blip r:embed="rId5"/>
          <a:stretch/>
        </p:blipFill>
        <p:spPr>
          <a:xfrm>
            <a:off x="8400960" y="1143000"/>
            <a:ext cx="743040" cy="1003320"/>
          </a:xfrm>
          <a:prstGeom prst="rect">
            <a:avLst/>
          </a:prstGeom>
          <a:ln w="0">
            <a:noFill/>
          </a:ln>
        </p:spPr>
      </p:pic>
      <p:sp>
        <p:nvSpPr>
          <p:cNvPr id="54" name="Freeform 20"/>
          <p:cNvSpPr/>
          <p:nvPr/>
        </p:nvSpPr>
        <p:spPr>
          <a:xfrm>
            <a:off x="0" y="5257800"/>
            <a:ext cx="8458200" cy="419040"/>
          </a:xfrm>
          <a:custGeom>
            <a:avLst/>
            <a:gdLst>
              <a:gd name="textAreaLeft" fmla="*/ 0 w 8458200"/>
              <a:gd name="textAreaRight" fmla="*/ 8458560 w 84582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5568" h="264">
                <a:moveTo>
                  <a:pt x="0" y="144"/>
                </a:moveTo>
                <a:cubicBezTo>
                  <a:pt x="92" y="128"/>
                  <a:pt x="184" y="112"/>
                  <a:pt x="288" y="96"/>
                </a:cubicBezTo>
                <a:cubicBezTo>
                  <a:pt x="392" y="80"/>
                  <a:pt x="520" y="64"/>
                  <a:pt x="624" y="48"/>
                </a:cubicBezTo>
                <a:cubicBezTo>
                  <a:pt x="728" y="32"/>
                  <a:pt x="792" y="0"/>
                  <a:pt x="912" y="0"/>
                </a:cubicBezTo>
                <a:cubicBezTo>
                  <a:pt x="1032" y="0"/>
                  <a:pt x="1144" y="32"/>
                  <a:pt x="1344" y="48"/>
                </a:cubicBezTo>
                <a:cubicBezTo>
                  <a:pt x="1544" y="64"/>
                  <a:pt x="1720" y="64"/>
                  <a:pt x="2112" y="96"/>
                </a:cubicBezTo>
                <a:cubicBezTo>
                  <a:pt x="2504" y="128"/>
                  <a:pt x="3328" y="216"/>
                  <a:pt x="3696" y="240"/>
                </a:cubicBezTo>
                <a:cubicBezTo>
                  <a:pt x="4064" y="264"/>
                  <a:pt x="4128" y="248"/>
                  <a:pt x="4320" y="240"/>
                </a:cubicBezTo>
                <a:cubicBezTo>
                  <a:pt x="4512" y="232"/>
                  <a:pt x="4640" y="208"/>
                  <a:pt x="4848" y="192"/>
                </a:cubicBezTo>
                <a:cubicBezTo>
                  <a:pt x="5056" y="176"/>
                  <a:pt x="5448" y="152"/>
                  <a:pt x="5568" y="144"/>
                </a:cubicBezTo>
              </a:path>
            </a:pathLst>
          </a:cu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1"/>
          <p:cNvSpPr/>
          <p:nvPr/>
        </p:nvSpPr>
        <p:spPr>
          <a:xfrm>
            <a:off x="0" y="6172200"/>
            <a:ext cx="8305920" cy="419040"/>
          </a:xfrm>
          <a:custGeom>
            <a:avLst/>
            <a:gdLst>
              <a:gd name="textAreaLeft" fmla="*/ 0 w 8305920"/>
              <a:gd name="textAreaRight" fmla="*/ 8306280 w 8305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5568" h="264">
                <a:moveTo>
                  <a:pt x="0" y="144"/>
                </a:moveTo>
                <a:cubicBezTo>
                  <a:pt x="92" y="128"/>
                  <a:pt x="184" y="112"/>
                  <a:pt x="288" y="96"/>
                </a:cubicBezTo>
                <a:cubicBezTo>
                  <a:pt x="392" y="80"/>
                  <a:pt x="520" y="64"/>
                  <a:pt x="624" y="48"/>
                </a:cubicBezTo>
                <a:cubicBezTo>
                  <a:pt x="728" y="32"/>
                  <a:pt x="792" y="0"/>
                  <a:pt x="912" y="0"/>
                </a:cubicBezTo>
                <a:cubicBezTo>
                  <a:pt x="1032" y="0"/>
                  <a:pt x="1144" y="32"/>
                  <a:pt x="1344" y="48"/>
                </a:cubicBezTo>
                <a:cubicBezTo>
                  <a:pt x="1544" y="64"/>
                  <a:pt x="1720" y="64"/>
                  <a:pt x="2112" y="96"/>
                </a:cubicBezTo>
                <a:cubicBezTo>
                  <a:pt x="2504" y="128"/>
                  <a:pt x="3328" y="216"/>
                  <a:pt x="3696" y="240"/>
                </a:cubicBezTo>
                <a:cubicBezTo>
                  <a:pt x="4064" y="264"/>
                  <a:pt x="4128" y="248"/>
                  <a:pt x="4320" y="240"/>
                </a:cubicBezTo>
                <a:cubicBezTo>
                  <a:pt x="4512" y="232"/>
                  <a:pt x="4640" y="208"/>
                  <a:pt x="4848" y="192"/>
                </a:cubicBezTo>
                <a:cubicBezTo>
                  <a:pt x="5056" y="176"/>
                  <a:pt x="5448" y="152"/>
                  <a:pt x="5568" y="144"/>
                </a:cubicBezTo>
              </a:path>
            </a:pathLst>
          </a:custGeom>
          <a:noFill/>
          <a:ln w="381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3"/>
          <p:cNvSpPr/>
          <p:nvPr/>
        </p:nvSpPr>
        <p:spPr>
          <a:xfrm>
            <a:off x="228600" y="3124080"/>
            <a:ext cx="8381880" cy="419400"/>
          </a:xfrm>
          <a:custGeom>
            <a:avLst/>
            <a:gdLst>
              <a:gd name="textAreaLeft" fmla="*/ 0 w 8381880"/>
              <a:gd name="textAreaRight" fmla="*/ 8382240 w 8381880"/>
              <a:gd name="textAreaTop" fmla="*/ 0 h 419400"/>
              <a:gd name="textAreaBottom" fmla="*/ 419760 h 419400"/>
            </a:gdLst>
            <a:ahLst/>
            <a:rect l="textAreaLeft" t="textAreaTop" r="textAreaRight" b="textAreaBottom"/>
            <a:pathLst>
              <a:path w="5568" h="264">
                <a:moveTo>
                  <a:pt x="0" y="144"/>
                </a:moveTo>
                <a:cubicBezTo>
                  <a:pt x="92" y="128"/>
                  <a:pt x="184" y="112"/>
                  <a:pt x="288" y="96"/>
                </a:cubicBezTo>
                <a:cubicBezTo>
                  <a:pt x="392" y="80"/>
                  <a:pt x="520" y="64"/>
                  <a:pt x="624" y="48"/>
                </a:cubicBezTo>
                <a:cubicBezTo>
                  <a:pt x="728" y="32"/>
                  <a:pt x="792" y="0"/>
                  <a:pt x="912" y="0"/>
                </a:cubicBezTo>
                <a:cubicBezTo>
                  <a:pt x="1032" y="0"/>
                  <a:pt x="1144" y="32"/>
                  <a:pt x="1344" y="48"/>
                </a:cubicBezTo>
                <a:cubicBezTo>
                  <a:pt x="1544" y="64"/>
                  <a:pt x="1720" y="64"/>
                  <a:pt x="2112" y="96"/>
                </a:cubicBezTo>
                <a:cubicBezTo>
                  <a:pt x="2504" y="128"/>
                  <a:pt x="3328" y="216"/>
                  <a:pt x="3696" y="240"/>
                </a:cubicBezTo>
                <a:cubicBezTo>
                  <a:pt x="4064" y="264"/>
                  <a:pt x="4128" y="248"/>
                  <a:pt x="4320" y="240"/>
                </a:cubicBezTo>
                <a:cubicBezTo>
                  <a:pt x="4512" y="232"/>
                  <a:pt x="4640" y="208"/>
                  <a:pt x="4848" y="192"/>
                </a:cubicBezTo>
                <a:cubicBezTo>
                  <a:pt x="5056" y="176"/>
                  <a:pt x="5448" y="152"/>
                  <a:pt x="5568" y="144"/>
                </a:cubicBezTo>
              </a:path>
            </a:pathLst>
          </a:custGeom>
          <a:noFill/>
          <a:ln w="4428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4"/>
          <p:cNvSpPr/>
          <p:nvPr/>
        </p:nvSpPr>
        <p:spPr>
          <a:xfrm>
            <a:off x="228600" y="1752480"/>
            <a:ext cx="8381880" cy="419400"/>
          </a:xfrm>
          <a:custGeom>
            <a:avLst/>
            <a:gdLst>
              <a:gd name="textAreaLeft" fmla="*/ 0 w 8381880"/>
              <a:gd name="textAreaRight" fmla="*/ 8382240 w 8381880"/>
              <a:gd name="textAreaTop" fmla="*/ 0 h 419400"/>
              <a:gd name="textAreaBottom" fmla="*/ 419760 h 419400"/>
            </a:gdLst>
            <a:ahLst/>
            <a:rect l="textAreaLeft" t="textAreaTop" r="textAreaRight" b="textAreaBottom"/>
            <a:pathLst>
              <a:path w="5568" h="264">
                <a:moveTo>
                  <a:pt x="0" y="144"/>
                </a:moveTo>
                <a:cubicBezTo>
                  <a:pt x="92" y="128"/>
                  <a:pt x="184" y="112"/>
                  <a:pt x="288" y="96"/>
                </a:cubicBezTo>
                <a:cubicBezTo>
                  <a:pt x="392" y="80"/>
                  <a:pt x="520" y="64"/>
                  <a:pt x="624" y="48"/>
                </a:cubicBezTo>
                <a:cubicBezTo>
                  <a:pt x="728" y="32"/>
                  <a:pt x="792" y="0"/>
                  <a:pt x="912" y="0"/>
                </a:cubicBezTo>
                <a:cubicBezTo>
                  <a:pt x="1032" y="0"/>
                  <a:pt x="1144" y="32"/>
                  <a:pt x="1344" y="48"/>
                </a:cubicBezTo>
                <a:cubicBezTo>
                  <a:pt x="1544" y="64"/>
                  <a:pt x="1720" y="64"/>
                  <a:pt x="2112" y="96"/>
                </a:cubicBezTo>
                <a:cubicBezTo>
                  <a:pt x="2504" y="128"/>
                  <a:pt x="3328" y="216"/>
                  <a:pt x="3696" y="240"/>
                </a:cubicBezTo>
                <a:cubicBezTo>
                  <a:pt x="4064" y="264"/>
                  <a:pt x="4128" y="248"/>
                  <a:pt x="4320" y="240"/>
                </a:cubicBezTo>
                <a:cubicBezTo>
                  <a:pt x="4512" y="232"/>
                  <a:pt x="4640" y="208"/>
                  <a:pt x="4848" y="192"/>
                </a:cubicBezTo>
                <a:cubicBezTo>
                  <a:pt x="5056" y="176"/>
                  <a:pt x="5448" y="152"/>
                  <a:pt x="5568" y="144"/>
                </a:cubicBezTo>
              </a:path>
            </a:pathLst>
          </a:cu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2"/>
          <p:cNvSpPr/>
          <p:nvPr/>
        </p:nvSpPr>
        <p:spPr>
          <a:xfrm>
            <a:off x="304920" y="4114800"/>
            <a:ext cx="8229600" cy="41904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5568" h="264">
                <a:moveTo>
                  <a:pt x="0" y="144"/>
                </a:moveTo>
                <a:cubicBezTo>
                  <a:pt x="92" y="128"/>
                  <a:pt x="184" y="112"/>
                  <a:pt x="288" y="96"/>
                </a:cubicBezTo>
                <a:cubicBezTo>
                  <a:pt x="392" y="80"/>
                  <a:pt x="520" y="64"/>
                  <a:pt x="624" y="48"/>
                </a:cubicBezTo>
                <a:cubicBezTo>
                  <a:pt x="728" y="32"/>
                  <a:pt x="792" y="0"/>
                  <a:pt x="912" y="0"/>
                </a:cubicBezTo>
                <a:cubicBezTo>
                  <a:pt x="1032" y="0"/>
                  <a:pt x="1144" y="32"/>
                  <a:pt x="1344" y="48"/>
                </a:cubicBezTo>
                <a:cubicBezTo>
                  <a:pt x="1544" y="64"/>
                  <a:pt x="1720" y="64"/>
                  <a:pt x="2112" y="96"/>
                </a:cubicBezTo>
                <a:cubicBezTo>
                  <a:pt x="2504" y="128"/>
                  <a:pt x="3328" y="216"/>
                  <a:pt x="3696" y="240"/>
                </a:cubicBezTo>
                <a:cubicBezTo>
                  <a:pt x="4064" y="264"/>
                  <a:pt x="4128" y="248"/>
                  <a:pt x="4320" y="240"/>
                </a:cubicBezTo>
                <a:cubicBezTo>
                  <a:pt x="4512" y="232"/>
                  <a:pt x="4640" y="208"/>
                  <a:pt x="4848" y="192"/>
                </a:cubicBezTo>
                <a:cubicBezTo>
                  <a:pt x="5056" y="176"/>
                  <a:pt x="5448" y="152"/>
                  <a:pt x="5568" y="144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pink_car"/>
          <p:cNvPicPr/>
          <p:nvPr/>
        </p:nvPicPr>
        <p:blipFill>
          <a:blip r:embed="rId6"/>
          <a:stretch/>
        </p:blipFill>
        <p:spPr>
          <a:xfrm>
            <a:off x="709560" y="4570560"/>
            <a:ext cx="704880" cy="91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orange_car"/>
          <p:cNvPicPr/>
          <p:nvPr/>
        </p:nvPicPr>
        <p:blipFill>
          <a:blip r:embed="rId7"/>
          <a:stretch/>
        </p:blipFill>
        <p:spPr>
          <a:xfrm>
            <a:off x="839880" y="3505320"/>
            <a:ext cx="749160" cy="91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yellow_car"/>
          <p:cNvPicPr/>
          <p:nvPr/>
        </p:nvPicPr>
        <p:blipFill>
          <a:blip r:embed="rId8"/>
          <a:stretch/>
        </p:blipFill>
        <p:spPr>
          <a:xfrm>
            <a:off x="746280" y="5562720"/>
            <a:ext cx="631800" cy="91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green_car"/>
          <p:cNvPicPr/>
          <p:nvPr/>
        </p:nvPicPr>
        <p:blipFill>
          <a:blip r:embed="rId9"/>
          <a:stretch/>
        </p:blipFill>
        <p:spPr>
          <a:xfrm>
            <a:off x="762120" y="2286000"/>
            <a:ext cx="880920" cy="1144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4" descr="gray_blimp"/>
          <p:cNvPicPr/>
          <p:nvPr/>
        </p:nvPicPr>
        <p:blipFill>
          <a:blip r:embed="rId10"/>
          <a:stretch/>
        </p:blipFill>
        <p:spPr>
          <a:xfrm>
            <a:off x="461880" y="112680"/>
            <a:ext cx="757440" cy="757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5" descr="green_blimp"/>
          <p:cNvPicPr/>
          <p:nvPr/>
        </p:nvPicPr>
        <p:blipFill>
          <a:blip r:embed="rId11"/>
          <a:stretch/>
        </p:blipFill>
        <p:spPr>
          <a:xfrm>
            <a:off x="1600200" y="152280"/>
            <a:ext cx="654120" cy="65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orange_blimp"/>
          <p:cNvPicPr/>
          <p:nvPr/>
        </p:nvPicPr>
        <p:blipFill>
          <a:blip r:embed="rId12"/>
          <a:stretch/>
        </p:blipFill>
        <p:spPr>
          <a:xfrm>
            <a:off x="2514600" y="112680"/>
            <a:ext cx="801720" cy="801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7" descr="pink_blimp"/>
          <p:cNvPicPr/>
          <p:nvPr/>
        </p:nvPicPr>
        <p:blipFill>
          <a:blip r:embed="rId13"/>
          <a:stretch/>
        </p:blipFill>
        <p:spPr>
          <a:xfrm>
            <a:off x="3657600" y="228600"/>
            <a:ext cx="765000" cy="730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8" descr="yellow_blimp"/>
          <p:cNvPicPr/>
          <p:nvPr/>
        </p:nvPicPr>
        <p:blipFill>
          <a:blip r:embed="rId14"/>
          <a:stretch/>
        </p:blipFill>
        <p:spPr>
          <a:xfrm>
            <a:off x="4876920" y="228600"/>
            <a:ext cx="71892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gray_car"/>
          <p:cNvPicPr/>
          <p:nvPr/>
        </p:nvPicPr>
        <p:blipFill>
          <a:blip r:embed="rId15"/>
          <a:stretch/>
        </p:blipFill>
        <p:spPr>
          <a:xfrm>
            <a:off x="685800" y="985680"/>
            <a:ext cx="7542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-2.5E-006 4.54461E-006 L 0.14219 0.00023 E">
                                      <p:cBhvr>
                                        <p:cTn id="3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0.14219 0.00024 L 0.25052 0.00047 E">
                                      <p:cBhvr>
                                        <p:cTn id="4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0.25052 0.00046 L 0.40886 0.01132 E">
                                      <p:cBhvr>
                                        <p:cTn id="4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40886 0.01132 L 0.59219 0.02242 E">
                                      <p:cBhvr>
                                        <p:cTn id="4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animMotion origin="layout" path="M 0.59219 0.02242 L 0.80886 0.02242 E">
                                      <p:cBhvr>
                                        <p:cTn id="5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0.00052 4.73879E-006 L 0.14271 -0.01087 E">
                                      <p:cBhvr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0.14219 -0.01087 L 0.25885 -0.01087 E">
                                      <p:cBhvr>
                                        <p:cTn id="6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0.25885 -0.01087 L 0.40885 0.00023 E">
                                      <p:cBhvr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0.40885 0.00024 L 0.59219 0.02266 E">
                                      <p:cBhvr>
                                        <p:cTn id="70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animMotion origin="layout" path="M 0.59219 0.02266 L 0.80885 0.01156 E"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4.16667E-006 4.93296E-006 L 0.15052 -0.01087 E">
                                      <p:cBhvr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Motion origin="layout" path="M 0.15052 -0.01087 L 0.26718 0.00023 E">
                                      <p:cBhvr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0.26718 0.00024 L 0.40885 0.02266 E">
                                      <p:cBhvr>
                                        <p:cTn id="8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0.40885 0.02265 L 0.60052 0.04461 E">
                                      <p:cBhvr>
                                        <p:cTn id="91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pplause.wav"/>
                                        </p:tgtEl>
                                      </p:cMediaNode>
                                    </p:audio>
                                    <p:animMotion origin="layout" path="M 0.60052 0.04461 L 0.81718 0.03351 E">
                                      <p:cBhvr>
                                        <p:cTn id="9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animMotion origin="layout" path="M 4.16667E-006 -3.32871E-007 L 0.14218 -3.32871E-007 E">
                                      <p:cBhvr>
                                        <p:cTn id="10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animMotion origin="layout" path="M 0.14218 -3.32871E-007 L 0.25052 0.0111 E">
                                      <p:cBhvr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animMotion origin="layout" path="M 0.25052 0.0111 L 0.40052 0.03329 E">
                                      <p:cBhvr>
                                        <p:cTn id="10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animMotion origin="layout" path="M 0.40052 0.03329 L 0.60885 0.03329 E">
                                      <p:cBhvr>
                                        <p:cTn id="11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applause.wav"/>
                                        </p:tgtEl>
                                      </p:cMediaNode>
                                    </p:audio>
                                    <p:animMotion origin="layout" path="M 0.60885 0.03329 L 0.82552 0.03329 E">
                                      <p:cBhvr>
                                        <p:cTn id="11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animMotion origin="layout" path="M 2.5E-006 -2.96296E-006 L 0.14167 0.01112 E">
                                      <p:cBhvr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animMotion origin="layout" path="M 0.14167 0.01112 L 0.26667 0.02223 E">
                                      <p:cBhvr>
                                        <p:cTn id="12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animMotion origin="layout" path="M 0.26667 0.02223 L 0.425 0.04445 E">
                                      <p:cBhvr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animMotion origin="layout" path="M 0.42501 0.04445 L 0.60001 0.05556 E">
                                      <p:cBhvr>
                                        <p:cTn id="133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applause.wav"/>
                                        </p:tgtEl>
                                      </p:cMediaNode>
                                    </p:audio>
                                    <p:animMotion origin="layout" path="M 0.60001 0.05556 L 0.80834 0.04445 E">
                                      <p:cBhvr>
                                        <p:cTn id="137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a sam koristila ove zadatke no za ponavljanje možete koristiti pitanja i zadatke iz bilo kojeg predm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1760" y="159984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5+2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90-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43+28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68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8+39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72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61+19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54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0+46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85-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66+21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92-44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54+37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88-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45+55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65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9+38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  68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61+19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54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ravokutnik 1"/>
          <p:cNvSpPr/>
          <p:nvPr/>
        </p:nvSpPr>
        <p:spPr>
          <a:xfrm>
            <a:off x="838080" y="1832040"/>
            <a:ext cx="73915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ako igra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dijelite učenike u razredu  u 5 grup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ripremite po 5 zadataka za svaku gru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tvorite igru utrk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Članovima prvog tima postavite zadatak i ukoliko točno odgovore na njega, klikni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a odgovarajuću loptu  na vrhu slajda , kako bi se njihov klaun pomaknuo naprijed. U slučaju netočnog rješenja ostaju na mjestu i čekaju drugi kru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et točnih odgovora dovest će ekipu do pobjede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kstniOkvir 2"/>
          <p:cNvSpPr/>
          <p:nvPr/>
        </p:nvSpPr>
        <p:spPr>
          <a:xfrm>
            <a:off x="2133720" y="59436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Ovaj  put sama izradila :Dubravka Petković OŠF, 2.veljače 2010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00:11Z</dcterms:created>
  <dc:creator>Jasmina Mehmedovic</dc:creator>
  <dc:description/>
  <dc:language>en-US</dc:language>
  <cp:lastModifiedBy>Your Name Here</cp:lastModifiedBy>
  <dcterms:modified xsi:type="dcterms:W3CDTF">2010-02-02T18:32:46Z</dcterms:modified>
  <cp:revision>49</cp:revision>
  <dc:subject/>
  <dc:title>Slide 1</dc:title>
</cp:coreProperties>
</file>